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109-1810-4874-8D87-BB511B70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BE9-E7A7-40C7-AD05-EA488FD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7DE-1BB0-4361-B1D5-10B896CE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55F-1991-498D-91A4-A2847F37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F14-9D39-44B8-A131-75B232E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899-74EC-4F20-BCDF-4A3D8DEA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3FB-F5D7-4490-B6F6-7BCE3D9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FA6-8676-4BAB-B8C6-AC6F9C1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508-0DD7-4BCB-AB4A-B2D9536B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2AE-103F-477D-888F-AD7FE1D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3A7-4E29-40CA-BE7E-B061EF2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54C-0A12-47C9-95D6-8155D06C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47B-0AD1-4B80-A059-7F5CD25DE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1T14:07:36Z</dcterms:created>
  <dc:creator>Игорь Андреевич</dc:creator>
  <dc:description/>
  <dc:language>en-US</dc:language>
  <cp:lastModifiedBy>Игорь Андреевич</cp:lastModifiedBy>
  <dcterms:modified xsi:type="dcterms:W3CDTF">2023-04-11T14:10:41Z</dcterms:modified>
  <cp:revision>1</cp:revision>
  <dc:subject/>
  <dc:title>Презентация PowerPoint</dc:title>
</cp:coreProperties>
</file>